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10AA-3E93-430A-A296-72A6410B5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DE00-EE9B-4EDC-BC31-76B4EF4A64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4B9F-2B09-4B7D-B7A7-B21B42F7F4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75FC-EB16-4BEE-857D-014A6A5E8D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7CB1-9FB7-4123-8130-C935CCAA18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4256-8D23-4624-8D89-0AF89FD327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EB18-2CFD-482C-AB34-AE3AF75682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42F4-9384-4C79-B4C3-0A89FB341C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8EEE-9522-4355-A896-18476B6B6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7CE1-3549-4D03-B367-9D697B83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902D-F122-43E2-BB77-EAB3E46BE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08FA-B4A0-4A39-9858-69D34FD8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8760-B8A6-45A7-9605-20541550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74DE-E221-4A01-B976-B67913BC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12C2-CF36-4CCE-8AB5-ED825097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8573-62A2-4C70-B44B-BAC8C629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E5FA-11AC-473D-AF23-FBCC0BA7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4145-5861-42EA-AAD3-B7A1F105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B82B-6667-490D-BBA4-7FC365EC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0CF4-5D46-4EA3-A061-836FE94B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4776"/>
                </a:gs>
                <a:gs pos="100000">
                  <a:srgbClr val="00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1AFB-6B6B-4F02-AD4C-ECDF2DE5CD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0" y="60948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ntegrative Health Center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pos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152280" y="3962520"/>
            <a:ext cx="883944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aren Burt, M.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rector, CCRMC Integrative Health Progr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ordinator, CCRMC Group Medical Vis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00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very Program Evaluated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asurable parameters of health and illn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iv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ient  and provider satisfa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ient  and provider perception of patient progr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rograms that are not successful will be terminated after quality improvement measures fai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llaborate with experts in program / service evalu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.g.:   PH - CHAP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CB School of Public Heal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CSF Osher Center for Integrative Medic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3288600" y="60948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Example: Peri-na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838080" y="1143000"/>
            <a:ext cx="7385040" cy="14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000"/>
                </a:solidFill>
                <a:uFillTx/>
                <a:latin typeface="Times New Roman"/>
              </a:rPr>
              <a:t>Servic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entering Prenatal Groups         Well Baby Groups        WIC  Depression Scree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-800-No Blues Resource Line            Doula Program           Lactation Consul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ri-natal Group Peer Support Counseling                   Behavior Health Counseling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fe Course Training – Community Agency / P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990720" y="2819520"/>
            <a:ext cx="70866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000"/>
                </a:solidFill>
                <a:uFillTx/>
                <a:latin typeface="Times New Roman"/>
              </a:rPr>
              <a:t>Collabor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MC Staff         Healthy Start / WIC         Behavioral Health            Public Heal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                      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mmunity Agencies             Lactation Consulta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mmunity Health Workers /  Promotoras / Health Conduct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5945400" y="51814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762120" y="4572000"/>
            <a:ext cx="7467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000"/>
                </a:solidFill>
                <a:uFillTx/>
                <a:latin typeface="Times New Roman"/>
              </a:rPr>
              <a:t>Outco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eterm birth* / Peri-natal depression                            Peri-natal screening / c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007 Yale study: 33%           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amily Wellbeing / Heal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Down Arrow 9"/>
          <p:cNvSpPr/>
          <p:nvPr/>
        </p:nvSpPr>
        <p:spPr>
          <a:xfrm>
            <a:off x="1143000" y="48006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99ff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Up Arrow 7"/>
          <p:cNvSpPr/>
          <p:nvPr/>
        </p:nvSpPr>
        <p:spPr>
          <a:xfrm>
            <a:off x="5562720" y="4800600"/>
            <a:ext cx="228600" cy="444600"/>
          </a:xfrm>
          <a:prstGeom prst="upArrow">
            <a:avLst>
              <a:gd name="adj1" fmla="val 50000"/>
              <a:gd name="adj2" fmla="val 49955"/>
            </a:avLst>
          </a:prstGeom>
          <a:solidFill>
            <a:srgbClr val="0099ff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3124080" y="152280"/>
            <a:ext cx="32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mponents Requir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914400" y="685800"/>
            <a:ext cx="7772400" cy="66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pace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esign and Furnishing                                                      Gra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ersonnel: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Administrative: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rogram Dir                           20/4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CRMC / Gr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edical Dir                             20/2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CRMC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havioral Health Dir               5/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dmin Assist to Dir/Eval          0/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nical Services Mgr               0/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havioral Health                                                                         per Dr. Ferma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Clinical Staff: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vider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CCRM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** LVN / CMA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CCRM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W /  Adult 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Grant / Collabo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**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Group Care Coordinator      40/8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CCRMC / Gr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Consultants: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valuation / Training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Gr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centives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r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** =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ready needed  at current volume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Down Arrow 3"/>
          <p:cNvSpPr/>
          <p:nvPr/>
        </p:nvSpPr>
        <p:spPr>
          <a:xfrm>
            <a:off x="6781680" y="2362320"/>
            <a:ext cx="46080" cy="609480"/>
          </a:xfrm>
          <a:prstGeom prst="downArrow">
            <a:avLst>
              <a:gd name="adj1" fmla="val 50000"/>
              <a:gd name="adj2" fmla="val 49232"/>
            </a:avLst>
          </a:prstGeom>
          <a:solidFill>
            <a:srgbClr val="0099ff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Family Practice Resource:</a:t>
            </a:r>
            <a:br>
              <a:rPr sz="28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tients, Providers and Healthcare System Benefit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atients’ fundamental needs addressed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cross age spectru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even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ulturally sensitive / linked to commun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263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ronic illness / chronic pain / obes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263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havioral Heal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263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New Productive / Successful Venues for Providers to deliver ca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263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reater patient collaboration and satisfa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reater teamwork with other divisions </a:t>
            </a:r>
            <a:r>
              <a:rPr b="0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increased resour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creased job satisfa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ealth Care System Balanced / Costs reduced: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creased  patient self-management skills &amp; self car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ng term  decrease in unnecessary acute care ne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st containment / Cost effec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 an Historic Time of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ational Healthcare Reform: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 and Expa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egrative Health Patient Services Group Medical Vis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ealth Educ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ntegrative Health Centers</a:t>
            </a:r>
            <a:br>
              <a:rPr sz="1600"/>
            </a:b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Services:</a:t>
            </a:r>
            <a:br>
              <a:rPr sz="28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ocus on Prevention / Self-Managemen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roup Medical Visit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ealth Education, Wellness and Fitness Class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mplementary and Alternative Medical (CAM)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tegrative Health Clini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: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dividual providers and CHW’s for 1:1 car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ehavioral Health Service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SA/ MH         Dr. Ferma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Training Center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tients          Staff          Outside provider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Evaluation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Quality improv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 </a:t>
            </a:r>
            <a:br>
              <a:rPr sz="4400"/>
            </a:b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Integrative and Collaborativ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tegration:  Holistic approach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Whole Person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tegration with CA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llaboration with Patients and families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elf- management = decreased  unnecessary reliance upon acute care facilit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llaboration within Health Care System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– build upon existing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FM     PH     MH     Adm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llaboration with other County divisions / agenc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dult Education       EHSD       Parks and  Recre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llaboration with members and agencies of the 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mmunity Health Workers        Community Agencies      Community Advis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tegrative Health Centers</a:t>
            </a:r>
            <a:br>
              <a:rPr sz="2400"/>
            </a:b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Loc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edicated space: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ithin major Health Centers  for groups, classes, CA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ree centers: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HC, MTZ, and RHC  </a:t>
            </a:r>
            <a:r>
              <a:rPr b="0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No exclusion of  any popul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ositive Common Environment: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upporting the mis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art:</a:t>
            </a:r>
            <a:br>
              <a:rPr sz="18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risis Intervention/</a:t>
            </a:r>
            <a:br>
              <a:rPr sz="18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sease Managemen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ey: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AutoShape 3"/>
          <p:cNvSpPr/>
          <p:nvPr/>
        </p:nvSpPr>
        <p:spPr>
          <a:xfrm>
            <a:off x="2438280" y="2514600"/>
            <a:ext cx="4267440" cy="3733920"/>
          </a:xfrm>
          <a:prstGeom prst="flowChartMerg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28600" y="3000240"/>
            <a:ext cx="25146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l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o participate in preventive screening 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sease manag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6781680" y="2971800"/>
            <a:ext cx="175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D, Nurse, OT, PT, SW, Admin.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2362320" y="1371600"/>
            <a:ext cx="441936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chnology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vidence Based ?                        Skyrocketing cos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equal Distribution -  Health Disparit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762120" y="152280"/>
            <a:ext cx="7772400" cy="13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Current Conventional Medical Paradig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bff"/>
                </a:solidFill>
                <a:latin typeface="Times New Roman"/>
              </a:rPr>
              <a:t>                                                          </a:t>
            </a:r>
            <a:r>
              <a:rPr b="1" lang="en-US" sz="1600" spc="-1" strike="noStrike" u="sng">
                <a:solidFill>
                  <a:srgbClr val="ccebff"/>
                </a:solidFill>
                <a:uFillTx/>
                <a:latin typeface="Times New Roman"/>
              </a:rPr>
              <a:t>Not Sustain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1981080" y="624852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rginalize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:  MH / SA / PH / Commun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Integrative Health Paradigm</a:t>
            </a:r>
            <a:br>
              <a:rPr sz="2000"/>
            </a:br>
            <a:r>
              <a:rPr b="1" lang="en-US" sz="2000" spc="-1" strike="noStrike" u="sng">
                <a:solidFill>
                  <a:srgbClr val="ccebff"/>
                </a:solidFill>
                <a:uFillTx/>
                <a:latin typeface="Arial"/>
              </a:rPr>
              <a:t>Sustainabl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85800" y="2286000"/>
            <a:ext cx="1981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943600" y="914400"/>
            <a:ext cx="2743200" cy="17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Crisis Intervention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Disease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st effect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vidence-bas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clusion of CA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5486400" y="2971800"/>
            <a:ext cx="36576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9196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Collaborative Teamwo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29196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l  inclus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29196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HW: Link to commun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29196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Oval 8"/>
          <p:cNvSpPr/>
          <p:nvPr/>
        </p:nvSpPr>
        <p:spPr>
          <a:xfrm>
            <a:off x="2895480" y="1981080"/>
            <a:ext cx="2895840" cy="26672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3124080" y="2133720"/>
            <a:ext cx="2438640" cy="24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Self  Healthc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Key: Empowerment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Preventive Self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-</a:t>
            </a: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C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Self –Management o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Illnes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057400" y="5105520"/>
            <a:ext cx="27432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5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utr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235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leep, Pac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235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xerci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235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editation/Deep Relaxation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152280" y="3048120"/>
            <a:ext cx="312444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6044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Empowerment of Pat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6044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rust, engagement, chan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6044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ulturally sensit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6044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46044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4648320" y="5105520"/>
            <a:ext cx="42670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23004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lf-Management /collaboration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23004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motional / Mental Self-Car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2209680" y="48006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Active Patient Education – Life Skil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4191120" y="2133720"/>
            <a:ext cx="37335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228600" y="914400"/>
            <a:ext cx="4343400" cy="14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Behavioral Health –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Spectrum  of C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isis / Dise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unseling: 1:1 &amp; gro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ress Management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5"/>
          <p:cNvSpPr/>
          <p:nvPr/>
        </p:nvSpPr>
        <p:spPr>
          <a:xfrm>
            <a:off x="3809880" y="304812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bff"/>
                </a:solidFill>
                <a:latin typeface="Times New Roman"/>
              </a:rPr>
              <a:t>Integrative Health C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3581280" y="990720"/>
            <a:ext cx="2210040" cy="16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reak Iso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uild 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5867280" y="137160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formation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du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1219320" y="13716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mpower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6095880" y="31240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AM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odal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20"/>
          <p:cNvSpPr/>
          <p:nvPr/>
        </p:nvSpPr>
        <p:spPr>
          <a:xfrm>
            <a:off x="4800600" y="5181480"/>
            <a:ext cx="312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tegration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/Collabo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Oval 12"/>
          <p:cNvSpPr/>
          <p:nvPr/>
        </p:nvSpPr>
        <p:spPr>
          <a:xfrm>
            <a:off x="3581280" y="2895480"/>
            <a:ext cx="2210040" cy="1524240"/>
          </a:xfrm>
          <a:prstGeom prst="ellipse">
            <a:avLst/>
          </a:prstGeom>
          <a:noFill/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22"/>
          <p:cNvSpPr/>
          <p:nvPr/>
        </p:nvSpPr>
        <p:spPr>
          <a:xfrm>
            <a:off x="1905120" y="51814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valu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Line 18"/>
          <p:cNvSpPr/>
          <p:nvPr/>
        </p:nvSpPr>
        <p:spPr>
          <a:xfrm>
            <a:off x="2971800" y="1143000"/>
            <a:ext cx="1219320" cy="1828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Line 19"/>
          <p:cNvSpPr/>
          <p:nvPr/>
        </p:nvSpPr>
        <p:spPr>
          <a:xfrm flipV="1">
            <a:off x="5105520" y="1143000"/>
            <a:ext cx="990360" cy="1828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Line 20"/>
          <p:cNvSpPr/>
          <p:nvPr/>
        </p:nvSpPr>
        <p:spPr>
          <a:xfrm flipV="1">
            <a:off x="5791320" y="2438280"/>
            <a:ext cx="2743200" cy="914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Line 21"/>
          <p:cNvSpPr/>
          <p:nvPr/>
        </p:nvSpPr>
        <p:spPr>
          <a:xfrm>
            <a:off x="5638680" y="4267080"/>
            <a:ext cx="3276720" cy="1219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Line 23"/>
          <p:cNvSpPr/>
          <p:nvPr/>
        </p:nvSpPr>
        <p:spPr>
          <a:xfrm flipH="1" flipV="1">
            <a:off x="609120" y="2590920"/>
            <a:ext cx="3048120" cy="838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Straight Connector 17"/>
          <p:cNvSpPr/>
          <p:nvPr/>
        </p:nvSpPr>
        <p:spPr>
          <a:xfrm flipH="1">
            <a:off x="380520" y="4191120"/>
            <a:ext cx="3505320" cy="1828800"/>
          </a:xfrm>
          <a:prstGeom prst="line">
            <a:avLst/>
          </a:prstGeom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Box 21"/>
          <p:cNvSpPr/>
          <p:nvPr/>
        </p:nvSpPr>
        <p:spPr>
          <a:xfrm>
            <a:off x="838080" y="30481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raini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Box 19"/>
          <p:cNvSpPr/>
          <p:nvPr/>
        </p:nvSpPr>
        <p:spPr>
          <a:xfrm>
            <a:off x="2057400" y="152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Mission of Integrative Health Cen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1447920" y="2085840"/>
            <a:ext cx="24382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elf-Effica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5867280" y="2057400"/>
            <a:ext cx="259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elf-Healthc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ommunity Resour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20"/>
          <p:cNvSpPr/>
          <p:nvPr/>
        </p:nvSpPr>
        <p:spPr>
          <a:xfrm>
            <a:off x="6248520" y="3578400"/>
            <a:ext cx="281916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ecrease reliance on phar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reatments/Self-Practic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ow to use/How to evalu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5334120" y="5638680"/>
            <a:ext cx="22860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atient - Provi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FM  - PH  - SA - M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HW - Commun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22"/>
          <p:cNvSpPr/>
          <p:nvPr/>
        </p:nvSpPr>
        <p:spPr>
          <a:xfrm>
            <a:off x="1143000" y="5562720"/>
            <a:ext cx="373392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ll servic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roductiv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ffica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ultural Sensitiv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23"/>
          <p:cNvSpPr/>
          <p:nvPr/>
        </p:nvSpPr>
        <p:spPr>
          <a:xfrm>
            <a:off x="838080" y="3505320"/>
            <a:ext cx="22100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Our staff, public hospitals, community clinics/agenci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Groups &amp; CAM Integration in HC for Underser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Line 24"/>
          <p:cNvSpPr/>
          <p:nvPr/>
        </p:nvSpPr>
        <p:spPr>
          <a:xfrm>
            <a:off x="4648320" y="4419720"/>
            <a:ext cx="0" cy="2438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25"/>
          <p:cNvSpPr/>
          <p:nvPr/>
        </p:nvSpPr>
        <p:spPr>
          <a:xfrm>
            <a:off x="3581280" y="1676520"/>
            <a:ext cx="19051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ecrease Str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crease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Integrative Health Center Servic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080" y="1860480"/>
            <a:ext cx="2514600" cy="6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Training Center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roups / CAM integ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733920" y="990720"/>
            <a:ext cx="21333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Grou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edical Visits / Class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019920" y="2209680"/>
            <a:ext cx="2971800" cy="26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IH Clin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:1 provider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ronic Illness Peer Support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unsel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457200" y="3753000"/>
            <a:ext cx="2514600" cy="17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Behavioral Health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roup and 1:1  Treat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novative / Effec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rap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429000" y="4572000"/>
            <a:ext cx="3276720" cy="19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CAM &amp; Other Services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cupunctur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assage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iropractic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ym Memberships / Pool U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3733920" y="2895480"/>
            <a:ext cx="16002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bff"/>
                </a:solidFill>
                <a:latin typeface="Times New Roman"/>
              </a:rPr>
              <a:t>Integrative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b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ccebff"/>
                </a:solidFill>
                <a:latin typeface="Times New Roman"/>
              </a:rPr>
              <a:t>Heal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b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ccebff"/>
                </a:solidFill>
                <a:latin typeface="Times New Roman"/>
              </a:rPr>
              <a:t>C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22"/>
          <p:cNvSpPr/>
          <p:nvPr/>
        </p:nvSpPr>
        <p:spPr>
          <a:xfrm flipV="1" rot="10800000">
            <a:off x="3581280" y="1766880"/>
            <a:ext cx="22860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Adult 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H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romotoras / H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762120" y="4952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Dr. Ferm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28"/>
          <p:cNvSpPr/>
          <p:nvPr/>
        </p:nvSpPr>
        <p:spPr>
          <a:xfrm>
            <a:off x="4572000" y="61722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Gyms / Parks and Rec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Line 15"/>
          <p:cNvSpPr/>
          <p:nvPr/>
        </p:nvSpPr>
        <p:spPr>
          <a:xfrm>
            <a:off x="2362320" y="1371600"/>
            <a:ext cx="1447560" cy="1600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Line 17"/>
          <p:cNvSpPr/>
          <p:nvPr/>
        </p:nvSpPr>
        <p:spPr>
          <a:xfrm>
            <a:off x="5410080" y="4114800"/>
            <a:ext cx="3124440" cy="1981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Line 18"/>
          <p:cNvSpPr/>
          <p:nvPr/>
        </p:nvSpPr>
        <p:spPr>
          <a:xfrm flipH="1">
            <a:off x="1980720" y="4267080"/>
            <a:ext cx="1676520" cy="2286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20"/>
          <p:cNvSpPr/>
          <p:nvPr/>
        </p:nvSpPr>
        <p:spPr>
          <a:xfrm flipH="1" flipV="1">
            <a:off x="456840" y="3352320"/>
            <a:ext cx="3048120" cy="228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Oval 21"/>
          <p:cNvSpPr/>
          <p:nvPr/>
        </p:nvSpPr>
        <p:spPr>
          <a:xfrm>
            <a:off x="3505320" y="2743200"/>
            <a:ext cx="1981080" cy="18288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30"/>
          <p:cNvSpPr/>
          <p:nvPr/>
        </p:nvSpPr>
        <p:spPr>
          <a:xfrm flipV="1">
            <a:off x="5257800" y="1371240"/>
            <a:ext cx="1447920" cy="1676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26"/>
          <p:cNvSpPr/>
          <p:nvPr/>
        </p:nvSpPr>
        <p:spPr>
          <a:xfrm>
            <a:off x="5562720" y="36576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romotoras / H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HW / Senior Peer Counsel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Box 24"/>
          <p:cNvSpPr/>
          <p:nvPr/>
        </p:nvSpPr>
        <p:spPr>
          <a:xfrm>
            <a:off x="457200" y="26668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CRMC Providers / Staff 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siden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1046"/>
          <p:cNvSpPr/>
          <p:nvPr/>
        </p:nvSpPr>
        <p:spPr>
          <a:xfrm>
            <a:off x="6781680" y="28954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CRMC Provid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1048"/>
          <p:cNvSpPr/>
          <p:nvPr/>
        </p:nvSpPr>
        <p:spPr>
          <a:xfrm>
            <a:off x="5029200" y="51055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CRMC Provid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5105520" y="5410080"/>
            <a:ext cx="198108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nter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ontrac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01:13:37Z</dcterms:created>
  <dc:creator>Karen Burt</dc:creator>
  <dc:description/>
  <dc:language>en-US</dc:language>
  <cp:lastModifiedBy>HCMARTINEZ</cp:lastModifiedBy>
  <dcterms:modified xsi:type="dcterms:W3CDTF">2009-07-21T18:37:57Z</dcterms:modified>
  <cp:revision>134</cp:revision>
  <dc:subject/>
  <dc:title>Integrative Health Center Proposal</dc:title>
</cp:coreProperties>
</file>